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59A2-118C-47B8-8939-D746A85C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4935-7928-4309-9580-6CA15403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C30E4-BC9A-4E69-84BD-C95EEC44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662CB-A084-4865-B9F0-AA9036A3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BEF01-722F-4B19-AAD9-7CEEC1CE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DDA85-8AA8-4DEA-A647-E5F3779A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60446-3DFA-4587-82CA-BF34C934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73210-2087-4718-8408-97A441CB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5DC3C-EB6D-494B-99B8-411CA3DF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AB7E8-AF72-4EFC-A332-994AF566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422E7-2CBB-4FDC-843D-8F07CCB34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A35BE-4CC7-4A52-952B-97AA3C5F1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B1C8-77D9-4025-AD54-F2D1F142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18898-C7C5-40DD-A0CE-133520AE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E9E91-F522-4C40-85DC-436E0DB5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CCF5E-69B9-43D4-A6EE-A301891E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3CD391-76DB-40B5-90E4-9B6B1A01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B8108-B870-4BEE-A519-E6F48217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1184D-4CC7-452E-8E8D-174EA978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14A1A-89BC-4796-9CA7-6E5267D6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E1DB5-02F2-4B9F-BB06-43FEE833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1443A-47F7-4ED7-AEE0-49083950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60A8B-FEF3-44FD-A913-24A32C71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4173-4771-4559-8A0D-DF508968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5203DF-1FD4-41A3-ABDD-15E72A8C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25BFE-FE01-4723-A935-1BB965A55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6B082-2B03-4903-9F37-346ABF91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5EF2C-BDC8-4E02-82B5-EAFCD0AB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AD4D5-D4BD-46DB-B99B-7C491F36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944DF-D7BA-4B7F-BACD-26A3D64D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1C09E-5CBB-4DB0-902C-B328034A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86BE7-8217-4252-8DA3-15D197B9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3CBBD-D81D-414D-BD6F-3067E613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97153-F416-45FB-BC49-0E7D6FA2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48EE-A6AC-4295-A382-681030D6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F063A-1825-4796-B093-58E7C11F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BDABE-21FC-40FF-B994-D98E0CC9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AA6EC-8570-4639-86B8-49F71C7B3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D10A9-C445-40F9-A1C4-92F2317D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DAB474-2ED7-4B53-979D-43B9E735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26AB4-7292-4B61-A62A-A71211B8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D155C3-057B-42FB-8E77-CD9F60DE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907C3-7D40-41A0-8AC9-EAAC3B14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5844B-2BD6-4DA9-9DCA-AEF0FA7C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378FEE-BC85-4763-A869-65ED4315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88ED-B845-4C1F-9E4F-7D0EFD1B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CA716C-598A-48F2-B537-90E8166A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70FAD-386D-4FAC-B8B9-A7FB4776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CDBB07-41FC-4C12-A20A-D8E5BBE3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4144DF-6BC4-485D-BB0C-12CB20E3C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A097FD-0E81-42DE-8991-372CD39F2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94CD05-479F-4A86-B00C-4A18419D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DDF05E-A78E-4A3D-A745-FF7FA5C8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A04E5F-8FAD-4EF4-86ED-BF8EE7A6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310E3F-AA1A-4FAC-A653-900A09FF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89A31D-26C5-4E6F-99B5-45843406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5432-CBCC-4BF0-9C40-A5F7B68F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70E9A6-5063-433C-847F-13B909EB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4A323D-1F33-475E-BC05-80C74850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4FB201-2DF3-4D86-A030-5AEDC8BF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D3530A-C2D9-420C-92A0-8C27DDFB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89EAA7-3AD1-4656-B7D1-7BA38473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FB33F2-5C20-419F-A89E-7F74977D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759C6E-6333-46DC-82AA-6DF43BFD3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3A2C86-3207-43E4-937A-B1C5608F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5F6CFD-680E-440A-A2E1-9431B909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5B2759-313F-4ED1-8F85-3B444A7C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4AF5-0A0D-4DBB-B6C4-8134B68A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6E3209-7AE5-4CF9-A8F0-2703D7BC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E76517-7114-4AC3-A7B2-E5A4A5BE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3AE2A8-12C3-4B9E-88F8-C556AB69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CE8A0C-AE26-40EF-A226-6CDD8CD8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8EECBD-7851-4596-AF71-51ED6EA7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81AF73-3901-415C-82DB-050A0C4E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148B15-FB73-42C8-87E3-AB5FAB14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012C2A-869F-4DC1-887E-EF1868D9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38F380-B154-420D-98EA-BC1D8778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568825-2B00-4D44-8590-F5ABB1FC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5B07-67E4-4772-9E86-AB3E7C0F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25C2E0-C6BE-411B-B803-5785D7A3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BC2FB9-9552-4FB4-84CC-E5371454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64467E-256C-40DA-B8CD-F6870858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B1E040-FA7D-4963-A51E-F7DF490A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5BF50B-CD35-4939-840C-CEFFA555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6EEC2D-AA72-4FCF-91E6-3851B5DE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3EED02-07CA-4CAB-9F17-1CD5DA6C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99F519-D6FA-4FF7-A9CA-A727EE4E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9B2A0B-8727-4E93-A95F-E5C6EEE7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7A31BD-C9D2-400A-9341-3806C910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7FCF-2D6C-48CB-A2E7-1F73B36D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0615C4-184D-4FE4-9204-7D879366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33EF17-7C83-4168-A569-A694CF64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E652EC-5EF8-46F1-8EE5-1947BC40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30DBE4-02A7-40AD-AD04-F1E9F6E3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05937D-0B06-4194-B228-5587927F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75A029-2B00-463D-B2C6-DF3E3C21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35305C-9356-40E0-BCE6-E6EE4AB4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ED5162-8F4C-439A-9355-A42E65DF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790E17-093E-4F61-9822-F277508F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0943C2-33ED-4627-87FA-FA7BF209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EB9A-C2FA-4A7E-B3CC-4B97743B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12FF66-E1C3-41E8-8295-D71568FA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BC4143-EA28-49DC-A00B-E0A81EDAD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B2EFBD-5491-4719-90B8-76F3BDBF2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B1A5CD-2775-4E6D-9D8A-562314D3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A0AA5E-91FE-4AD7-97B4-CE62FDC5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704728-6B9B-4E6D-B237-9D416B30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7259AD-60D1-4550-B583-BE529659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88D1E5-41BB-4B05-97AA-095EFBE4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706492-7ECE-4A55-9CD2-926DDA21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CAC39E-1BA9-491B-B8FC-46C0A7BC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5834-86C7-41CB-A3CC-4F2F75B3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F161-A8DD-4762-AE17-CBF9F01F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0362BE-9CA7-4340-8B9B-79F40CFB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777BD3-69C4-40BD-9D86-9CDE37A5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304047-0654-4681-9289-E1EBAB7F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2284EE-B1EE-4854-8C57-76918AE00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D97C38-1081-49AA-BD1F-7F297191F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D3D379-EDA5-4C45-B31B-854387B8A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86EBAE-1FAF-4995-9ECB-2FD3D220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243DDF-3912-4DB2-9C0C-F93AF2C4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887753-62AF-44FD-B947-61613727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2F2303-E863-40A6-8714-CC0A218E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D4BE-DE46-4267-85F6-B27C7AE7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9FDF24-C279-4E25-8FA7-4620CF69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5EDED4-0D6B-4C02-AB4A-07C89F23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15C11E-4815-4A32-BFB5-323154D3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0FB569-505C-4FC8-B5E2-25A44E09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84F2C2-CDC7-430D-941F-367942A2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334F0C-BAB4-4EB7-86A2-17ECC303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95DAEC-EE6A-447C-8687-C549DAF3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C4B99C-E0CA-4C4A-A25B-F108F06F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90EDC2-BF8D-4784-A5C7-16A33D85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701415-599C-43EF-ADD5-A1BDF0ED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5B59-D9F5-47B6-8D9E-0F2B1D49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2DFCC8-6949-442D-8C66-3EF9F5C7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8555CA-3900-43C3-83B2-7F0F33F6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669690-8553-4E4F-A216-29366BE3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BFA28D-E45D-4791-BF77-596A0EA2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4022EE-98F9-416F-895D-83CC36CA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9D7BF0-5172-4019-AA0A-546F877D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2506E6-556E-4B89-B2C7-DCC09891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FA9F32-E6B7-4E3A-AB88-CBB1AB81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57038D-FE16-4C77-B0E0-9EF58F6B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40C12A-645E-4EA9-9A6A-5FE4CE01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7505-AD9E-40E1-83E1-5BD9E502F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FE4D45-54A4-4196-9807-73271E6B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59E127-70B2-47CF-B59F-C50E33E0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15F0FD-2176-4540-BAF8-76D88590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9D2316-C786-4B85-A990-28E1220F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D4D845-5004-4754-87EE-BD6F3405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69EBF8-3F8B-4F7E-9EDB-4BDBECF9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F384EB-FA4A-4582-9A13-D385B055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69E13A-406A-40EF-9EF2-2B9E2429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8584E7-0E6D-4B0B-90FF-852DE495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404057-CADF-43C2-B38E-1E20CB017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9C97-B4CC-49ED-9C49-FC53CA660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C2C714-13AD-4EB9-8A74-627B2E37E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26D026-AFAE-4B31-B1B1-51763B80C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D60DFA-BDD2-4AA2-A3FC-20B1E748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C385C0-D0D7-4401-AE20-B478FFE5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55BBB8-4B4E-44B6-8BD3-9B4DA18E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8EFEEB-CB24-47B4-BD62-2777C955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99B5F5-7D0A-44EE-B38A-5EFC017B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3BD0F3-5071-46A1-A1FD-6C43EBDB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98AA14-9E08-4C28-AB87-B9CB82C9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D10D06-597D-414F-BDC7-DEE6DF1E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57A36-2621-41B9-945C-33ADFED27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3BC74B-E9B7-4AAF-81FD-A9C56EF0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51C3A9-9BC9-4675-B2C1-0A59B559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AA8942-69E7-4DB9-90B6-DEF29F06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257A5-F5B7-4FC5-9831-57E8118B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3A8AE-FA74-4BBB-9791-3EE77979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3A8B9-F25E-4638-9A7E-6A5ED5FF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740AA-09D8-4367-8B77-EEAF80A5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94BD-BE04-4A99-97C9-CE45CDFA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7D939-89F3-4138-AFE2-3E31B590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6370A-4F81-46BD-85F4-1C3BDFB5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B6ADA-D139-4689-B38D-4345E451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59D68-939D-4DA8-A82B-DC1C4738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3A49B-8CBD-4F70-AD6D-ECD5E47A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51828-C8DB-4F3A-AE87-A86E5F8F8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DAD3E-FD22-43B9-89F3-B3E4127AE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F8258-D8DF-4E68-A406-47E23795E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3307B-7379-4DF5-AA2E-BC101B0C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2AA5E-2BE2-4076-8288-BDAA02DF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62BB-9332-4FBE-8C51-B804F585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18D55-835A-4E16-8BC1-8D478142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1AA48-E019-42A9-B755-6EFAB706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E2975-D5F2-49E3-86C7-4A9921D8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B9EE9-F62F-4809-B1EE-0A7B7664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F91A8-D3C0-4EF9-B572-6AA9660B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8C429-AD5F-454C-8484-1E9037FC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5960D-C7E9-49BA-BC1B-7B517682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27D6A-D9FB-4449-BE26-59BE3140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406A1-B805-49DA-AC8B-5375A20D1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994AC-7F5E-45F6-9E55-8D67568F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9E51-07B4-4403-BC76-30E4068E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F9760-1573-41BF-849D-24AE44C1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4772D-D8F5-41FB-979F-5E12ECF2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0B5C3-3396-4115-99CA-9C042A0A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09AEB-3272-4D32-9022-71FE7879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471CD-8B79-456B-81A1-E0AD783F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E96D2-AB5C-476E-8A53-6697F28B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DF32C-F87D-4B5F-AD72-26B40F9F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498EC-0A08-474F-99E0-BC890B8A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6811C-F1A5-43DE-9B24-41D65212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90593-9341-4A17-8EA8-CCC7773CE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79CB-4B51-4934-BD2B-F85D7B13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D9D93-4A10-42C9-A4F6-49C1236D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2B8A8-F06D-451A-B9C4-BED30BD6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98A33-2B61-4DE7-AE67-B290B392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189E5-126F-43BA-8D74-0B6A08C6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51CEE-0DFF-46B7-987F-D74ADDB9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0CA19-25AD-40DE-B0C3-4337E4DC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5D0A3-E599-472C-BC7E-B3F3FBC2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CB234-C4F0-4238-8132-8C3CF1C3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CEA40-22DF-4E17-BEA7-4D0EA70D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4D23B-36B4-45E5-ACA4-BA51B4B0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AE0D-8761-439D-8793-B39C8A84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6D20C-F7B3-4CD1-A2A7-169AE8FA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9054B-DCD9-4246-A82F-95DA02541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B0C06-5639-4771-8675-0433CE65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147D8-DEBD-4313-9754-1F8ED9E9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F2385-BD5A-42B9-A6E2-4E754B20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3D8AD-6631-45DC-BAD2-7FB31B42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D0733-CE50-4880-A1B2-07B6EA53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74E3F-26E9-4177-BFBC-259F081F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F5496-9B61-44F3-AF20-E86EED64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497A4-7F9F-4165-8F50-72A5B30D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ED38-17C0-437E-82DF-EA062DB0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44A2A-DA7A-4E89-A758-ECBE3D3A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AB5DE-3F69-49E8-8E43-2C5D2B34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B8746-5358-4930-912B-C59C680B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7849B-08FE-462B-8761-36C808E6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F4DCA-9FDD-410A-A85E-7C69FE78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62DB7-A818-4CA0-B293-F54975497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F3AC0-4E16-4D5B-93B5-C4D66034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621C5-F2AB-46D4-9E37-ABD482E6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4B26F-B93D-420E-AA16-66762335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7349A-9D0C-4D37-A0B3-D7E7CEE3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B8B1-5650-4DF6-BFD3-E67D77C8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A970A-374D-4052-A51E-3E66674A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3B812-233D-4A63-9D18-C36909F2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24862-FDB0-4986-B91B-02839817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E38B4-E779-4148-B747-F6742179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A0D68-93B5-4C6A-B0C7-FB3B84BF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6758D-2FF9-4C75-8069-AE6BDF92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EA942-C606-4D64-9987-162BBC9BE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6E299-A42F-4528-9203-138E89400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C8C3C-2A8E-412B-965A-B60ED4BC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B92C3-6A18-4CD2-829D-80FEDE9C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0372-973D-4EF8-A6E1-BFB687889E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F22C-F731-4151-9B9F-B101565FB1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4EE0-F68C-447E-8F6D-0ABC581E8F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0EB0-8729-4A66-ACED-74CCD2B6B9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7294-9EA7-4B21-A9B9-2C1ECBC9FA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767F-9746-4DB8-9E0E-6DC4F58FE6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0A37-6E60-4F4B-BDEE-878ECBDB94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0003-0187-41E6-8760-ADC60C84EF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A2F8-85F7-48C2-BF1E-E67F69AF96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89E2-A181-4633-8A4B-7A61C27C53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DD81-0EF7-41B6-9197-F1934CAC79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52FD-6EB1-4423-9B1F-405F88E1DF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48D9-E751-447E-9D40-C2BB2C970B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E246-DA5F-42FE-9126-F96803D79A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79BE-928D-4252-8213-8422E6887A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9E5B-1AF6-46FD-888A-9948353ECC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781E-3490-46E9-9811-2CD6B66D00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9CFA-D171-41DD-B42E-BF57273573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9BD1-7CFB-4A4C-AC4D-AE4357AA97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597A-86E0-4FF6-B8D1-EDF0A796BD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327E-9940-44E5-AD54-43ECDCB299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9734-0B34-41CB-8B3D-6A20B81866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3280-4BFE-4935-88A1-14522BA458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ED69-FBCC-4DCD-ACD2-0F8C7FDECB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D302-B82B-4861-8637-CE8C9D9C18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688F-7F8F-4860-8439-479A1E5CE6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7560-CCEE-4E30-9FC7-A655D33053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039C-5D40-4AE4-A5B7-B5EFB7D15A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B4FC-ED55-4AB3-87F8-0DC414B1BF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0C77-4724-4ACA-B99D-AD2E05BD73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9380-3428-43BC-B3DA-FC6D0E947E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9004-03ED-4838-93AF-8961FF3C2D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596B-7666-47E4-9A0D-A639A52EAB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36FA-8CBA-448F-A8DC-CBFB432229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49FE-4598-453B-981D-209959DEE8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4DEE-630D-4752-9344-34F58484BB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59C2-998E-4AC4-AFC7-3CBB4FD35D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56F8-9F4A-41AF-9D3D-A4FFE4CA53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35AD-D66E-49D9-A289-C23C7F3E4B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766B-4F83-4973-9769-344D9499E7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638440" y="3205080"/>
            <a:ext cx="38671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95280" y="914400"/>
            <a:ext cx="8353440" cy="56102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395440" y="11336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395440" y="164448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395440" y="21337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2395440" y="26449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6084720" y="11336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6084720" y="164448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6084720" y="21337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6084720" y="26449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1547640" y="57769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1316160" y="619452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4124160" y="535932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3924360" y="619452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6804000" y="53737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6603840" y="620856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1592280" y="4076640"/>
            <a:ext cx="712800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9410" descr=""/>
          <p:cNvPicPr/>
          <p:nvPr/>
        </p:nvPicPr>
        <p:blipFill>
          <a:blip r:embed="rId1"/>
          <a:stretch/>
        </p:blipFill>
        <p:spPr>
          <a:xfrm>
            <a:off x="800280" y="861840"/>
            <a:ext cx="7543800" cy="55915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1187280" y="2219400"/>
            <a:ext cx="2305080" cy="3189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1258920" y="2550960"/>
            <a:ext cx="2305080" cy="3193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1116000" y="5473800"/>
            <a:ext cx="2951280" cy="3189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1042920" y="5805360"/>
            <a:ext cx="2951280" cy="3193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6"/>
          <a:stretch/>
        </p:blipFill>
        <p:spPr>
          <a:xfrm>
            <a:off x="1116000" y="6151680"/>
            <a:ext cx="29512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8:15:54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